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9.wmf" ContentType="image/x-wmf"/>
  <Override PartName="/ppt/media/image14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CCF-073D-4082-AECB-8A400A62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4BF-FB59-4FA4-BCB8-87883DFE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0AB-5BC9-4825-9F44-B20AED37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450-2F24-4A04-956B-EB6487F2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A487-C450-4D50-8C43-CF752B7F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96817-8F9D-4FFF-BF12-4B77D8DD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2D015-C313-449B-9983-8E133D97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27D22-80F4-481C-BDF0-CD18664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93EF-01D9-4E02-BB0D-DD1E29F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2DA26-7AEF-4C3A-9BAA-CE21FEE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0F24-7A7B-411E-B151-CF4D9EB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198-BDC5-49AB-936F-9B2F7C5B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76C8A-148A-40DC-96E8-073B9F57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991FE-D750-4F46-98D1-878ECC13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23FA5-F082-4491-8211-6E1020F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79909-6CC3-4E38-B2E9-464436E7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0053E-FE00-46EF-BE43-9305C25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EAD-8C35-4167-A385-8A19768C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45A-8438-4FC2-BC33-C0F7F00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A14-1C68-4D26-AC53-DCF9D3C5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24B-67FD-471B-A867-84C3760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D3-1F6F-4C1B-B0F7-7C2E8CB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0F5-B008-41E0-B44F-D9D9BB2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E10-24D6-47D0-B251-EB115C7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C474-186F-4DFA-8655-7F30E09D99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973-D472-46C7-95FB-F3D3E2E293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295280"/>
            <a:ext cx="4438800" cy="3333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2896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Kapitel 9 Project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utsch Trip!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ch schlage vor dass..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idelberg!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llie Frysz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MC900189571[1]"/>
          <p:cNvPicPr/>
          <p:nvPr/>
        </p:nvPicPr>
        <p:blipFill>
          <a:blip r:embed="rId3"/>
          <a:stretch/>
        </p:blipFill>
        <p:spPr>
          <a:xfrm>
            <a:off x="304920" y="3429000"/>
            <a:ext cx="3822480" cy="29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C900439806[1]"/>
          <p:cNvPicPr/>
          <p:nvPr/>
        </p:nvPicPr>
        <p:blipFill>
          <a:blip r:embed="rId4"/>
          <a:stretch/>
        </p:blipFill>
        <p:spPr>
          <a:xfrm rot="1914600">
            <a:off x="2819160" y="297180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s kostet Meine Urlaub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43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39.39 euros fur der Flugze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9.95 euros fur meine 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euros fur der Ba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450 fur amenti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lugzeug/ ticket von und nach Detroit-Frankfu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0" t="14356" r="47288" b="18063"/>
          <a:stretch/>
        </p:blipFill>
        <p:spPr>
          <a:xfrm>
            <a:off x="457200" y="152388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ine Mutti und ich kaufe eine Flugticket aus Detroit und um Frandfurt Flugplat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ostet 1839.80 Americana $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habe 911.57euros ubri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r Ubah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11113" t="10100" r="12037" b="27148"/>
          <a:stretch/>
        </p:blipFill>
        <p:spPr>
          <a:xfrm>
            <a:off x="0" y="1295280"/>
            <a:ext cx="5029200" cy="446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kaufe eine ubahn Bahnticket. Er Kostet: 27 euro von Frankfurt Flughafen, zu Heidelberg und die Abenteu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hr kleine gel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ein Deutschland Reise und Landeskunde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4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2800" y="1625760"/>
            <a:ext cx="5918400" cy="4444920"/>
          </a:xfrm>
          <a:prstGeom prst="rect">
            <a:avLst/>
          </a:prstGeom>
          <a:ln w="0">
            <a:noFill/>
          </a:ln>
        </p:spPr>
      </p:pic>
      <p:sp>
        <p:nvSpPr>
          <p:cNvPr id="135" name="Line 5"/>
          <p:cNvSpPr/>
          <p:nvPr/>
        </p:nvSpPr>
        <p:spPr>
          <a:xfrm>
            <a:off x="1828800" y="2971800"/>
            <a:ext cx="2057400" cy="144792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962520" y="4419720"/>
            <a:ext cx="0" cy="3808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 Heidelberg, wir will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uchen Der shorn Schloss Garten, und unter dem Stattd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essen in dem Schillers café! Und essen hinter Die Be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HeidelbergSchloss-Mende-retouch1"/>
          <p:cNvPicPr/>
          <p:nvPr/>
        </p:nvPicPr>
        <p:blipFill>
          <a:blip r:embed="rId1"/>
          <a:stretch/>
        </p:blipFill>
        <p:spPr>
          <a:xfrm>
            <a:off x="838080" y="3124080"/>
            <a:ext cx="3036960" cy="354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2687760_2_b"/>
          <p:cNvPicPr/>
          <p:nvPr/>
        </p:nvPicPr>
        <p:blipFill>
          <a:blip r:embed="rId2"/>
          <a:stretch/>
        </p:blipFill>
        <p:spPr>
          <a:xfrm>
            <a:off x="5029200" y="373392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der, im Heidelberg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 Essen kuchen vor der Innerstadt vor Heidelberg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 Besuchen sehr gut Deutsch Kunts mit meine mutti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j0215941"/>
          <p:cNvPicPr/>
          <p:nvPr/>
        </p:nvPicPr>
        <p:blipFill>
          <a:blip r:embed="rId1"/>
          <a:stretch/>
        </p:blipFill>
        <p:spPr>
          <a:xfrm>
            <a:off x="152280" y="2895480"/>
            <a:ext cx="1965600" cy="234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215934"/>
          <p:cNvPicPr/>
          <p:nvPr/>
        </p:nvPicPr>
        <p:blipFill>
          <a:blip r:embed="rId2"/>
          <a:stretch/>
        </p:blipFill>
        <p:spPr>
          <a:xfrm>
            <a:off x="2286000" y="3048120"/>
            <a:ext cx="2209680" cy="199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kfrysztak\AppData\Local\Microsoft\Windows\Temporary Internet Files\Content.IE5\HXDJR8A5\MP900427819[1].jpg"/>
          <p:cNvPicPr/>
          <p:nvPr/>
        </p:nvPicPr>
        <p:blipFill>
          <a:blip r:embed="rId3"/>
          <a:stretch/>
        </p:blipFill>
        <p:spPr>
          <a:xfrm>
            <a:off x="4505400" y="2879640"/>
            <a:ext cx="2073240" cy="20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Users\kfrysztak\AppData\Local\Microsoft\Windows\Temporary Internet Files\Content.IE5\N2CS91BV\MC900446082[1].wmf"/>
          <p:cNvPicPr/>
          <p:nvPr/>
        </p:nvPicPr>
        <p:blipFill>
          <a:blip r:embed="rId4"/>
          <a:stretch/>
        </p:blipFill>
        <p:spPr>
          <a:xfrm>
            <a:off x="6934320" y="2422440"/>
            <a:ext cx="1758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, Heidelberg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 werden gehen zu Heidelberg Universita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h, wirklich shor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9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hhhh, Heidelberg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2" descr="http://upload.wikimedia.org/wikipedia/commons/3/31/Heidelberg_night.jpg"/>
          <p:cNvPicPr/>
          <p:nvPr/>
        </p:nvPicPr>
        <p:blipFill>
          <a:blip r:embed="rId1"/>
          <a:stretch/>
        </p:blipFill>
        <p:spPr>
          <a:xfrm>
            <a:off x="1981080" y="1143000"/>
            <a:ext cx="52912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t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00" r="23150" b="30773"/>
          <a:stretch/>
        </p:blipFill>
        <p:spPr>
          <a:xfrm>
            <a:off x="152280" y="1219320"/>
            <a:ext cx="4343400" cy="5181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r Hotel koste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9.7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on 3 Tag im Leonardo Hote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s hotel gibt es ein gross und Luxus Spa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 gibt es eine gross Esszimmer neben der Lobby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der, es gibt sehr gut schlafen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01.85 Eu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02:00Z</dcterms:created>
  <dc:creator>CUSD220</dc:creator>
  <dc:description/>
  <dc:language>en-US</dc:language>
  <cp:lastModifiedBy>NNagel</cp:lastModifiedBy>
  <dcterms:modified xsi:type="dcterms:W3CDTF">2012-01-09T14:01:15Z</dcterms:modified>
  <cp:revision>15</cp:revision>
  <dc:subject/>
  <dc:title>Kapitel 9 Project: Deutsch Trip</dc:title>
</cp:coreProperties>
</file>